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9B6-90E8-4F79-9AEC-490156E0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FF7-E36D-4E33-B2BF-11909D8E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CBA-28B6-4848-ACF0-20C7E15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B86-4AC6-4E3D-8E15-601A0955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978-26EB-4DB6-B698-A829DA6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5DF-F987-4C1C-A8AD-351203C2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144-6641-4278-BB71-2144054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730-474C-4E4C-AB9A-D12EE747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B3B-433E-42CD-A6DD-C1CA6FA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FDD-1349-4204-AD91-E156955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9FC-718B-465D-A96F-9680AA9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1C3-7C13-46B5-942E-F9B5A92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C3F9-3B2B-47E7-8094-43DEF275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0"/>
            <a:ext cx="8683560" cy="3449880"/>
            <a:chOff x="228600" y="0"/>
            <a:chExt cx="8683560" cy="34498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06600" y="228600"/>
              <a:ext cx="830556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578400" y="0"/>
              <a:ext cx="464796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TC          R-P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PerC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Qdot 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0/30      575/26                    675/20                       780/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1160" y="304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ue 488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0280" y="2895480"/>
              <a:ext cx="838188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                         400                         500                          600                          700                          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-1018800" y="1474200"/>
              <a:ext cx="304956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20       40       60      80     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0"/>
            <a:ext cx="7543800" cy="3449880"/>
            <a:chOff x="152280" y="0"/>
            <a:chExt cx="7543800" cy="34498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39640" y="392040"/>
              <a:ext cx="7156440" cy="26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527280" y="312840"/>
              <a:ext cx="513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52680" y="0"/>
              <a:ext cx="385128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exa Fluor 647       Alexa Fluor 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0/20                        730/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2895480"/>
              <a:ext cx="67057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                    600                      650                  700                   7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-926640" y="1307520"/>
              <a:ext cx="2895480" cy="73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20       40      60      80     100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720" y="380880"/>
              <a:ext cx="228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 633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0"/>
            <a:ext cx="6561360" cy="3449880"/>
            <a:chOff x="380880" y="0"/>
            <a:chExt cx="6561360" cy="34498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760320" y="228600"/>
              <a:ext cx="58690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60520" y="0"/>
              <a:ext cx="1447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 Vio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0/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2895480"/>
              <a:ext cx="502920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                          450                          500                        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7040" y="304920"/>
              <a:ext cx="290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olet 405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-827640" y="1360440"/>
              <a:ext cx="297180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20       40      60       80    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228240"/>
            <a:ext cx="9144000" cy="3050640"/>
            <a:chOff x="0" y="228240"/>
            <a:chExt cx="9144000" cy="3050640"/>
          </a:xfrm>
        </p:grpSpPr>
        <p:grpSp>
          <p:nvGrpSpPr>
            <p:cNvPr id="64" name=""/>
            <p:cNvGrpSpPr/>
            <p:nvPr/>
          </p:nvGrpSpPr>
          <p:grpSpPr>
            <a:xfrm>
              <a:off x="0" y="228240"/>
              <a:ext cx="9144000" cy="3048120"/>
              <a:chOff x="0" y="228240"/>
              <a:chExt cx="9144000" cy="30481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0" y="228600"/>
                <a:ext cx="3200400" cy="3047760"/>
                <a:chOff x="0" y="228600"/>
                <a:chExt cx="3200400" cy="30477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685800"/>
                  <a:ext cx="274176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228600" y="2286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MO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 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200000">
                  <a:off x="-1218960" y="1523160"/>
                  <a:ext cx="29718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80880" y="2743200"/>
                  <a:ext cx="2590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57200" y="83808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09680" y="838080"/>
                  <a:ext cx="68580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9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286000" y="251460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1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943600" y="228240"/>
                <a:ext cx="3200400" cy="3048120"/>
                <a:chOff x="5943600" y="228240"/>
                <a:chExt cx="3200400" cy="304812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5943600" y="228240"/>
                  <a:ext cx="3200400" cy="3048120"/>
                  <a:chOff x="5943600" y="228240"/>
                  <a:chExt cx="3200400" cy="30481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6172200" y="304560"/>
                    <a:ext cx="297180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ull Pane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685800"/>
                    <a:ext cx="27417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" name=""/>
                  <p:cNvSpPr/>
                  <p:nvPr/>
                </p:nvSpPr>
                <p:spPr>
                  <a:xfrm rot="16200000">
                    <a:off x="4724280" y="1447200"/>
                    <a:ext cx="297180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D105-Alexa Fluor</a:t>
                    </a: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®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7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324480" y="2743200"/>
                    <a:ext cx="243864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D90-FIT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"/>
                <p:cNvSpPr/>
                <p:nvPr/>
              </p:nvSpPr>
              <p:spPr>
                <a:xfrm>
                  <a:off x="6400800" y="83808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20120" y="251460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22960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6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305920" y="2514600"/>
                  <a:ext cx="53316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4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971800" y="228600"/>
                <a:ext cx="3124080" cy="3047760"/>
                <a:chOff x="2971800" y="228600"/>
                <a:chExt cx="3124080" cy="30477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124080" y="2286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MO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 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00400" y="685800"/>
                  <a:ext cx="274176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3124080" y="27432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6200000">
                  <a:off x="1752480" y="1523160"/>
                  <a:ext cx="29718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181480" y="251460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5780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1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0532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7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05320" y="251460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3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457200" y="2971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971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8120" y="2895120"/>
            <a:ext cx="3276360" cy="2410560"/>
            <a:chOff x="3048120" y="2895120"/>
            <a:chExt cx="3276360" cy="2410560"/>
          </a:xfrm>
        </p:grpSpPr>
        <p:grpSp>
          <p:nvGrpSpPr>
            <p:cNvPr id="97" name=""/>
            <p:cNvGrpSpPr/>
            <p:nvPr/>
          </p:nvGrpSpPr>
          <p:grpSpPr>
            <a:xfrm>
              <a:off x="3048120" y="2895120"/>
              <a:ext cx="3276360" cy="2410560"/>
              <a:chOff x="3048120" y="2895120"/>
              <a:chExt cx="3276360" cy="241056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200400" y="5029200"/>
                <a:ext cx="312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ck-iT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®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EdU Alexa Fluor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®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647az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018520" y="3924360"/>
                <a:ext cx="233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52880" y="4114800"/>
                <a:ext cx="7621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1.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410080" y="30481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9920" y="2895120"/>
            <a:ext cx="2894040" cy="2410560"/>
            <a:chOff x="6019920" y="2895120"/>
            <a:chExt cx="2894040" cy="2410560"/>
          </a:xfrm>
        </p:grpSpPr>
        <p:grpSp>
          <p:nvGrpSpPr>
            <p:cNvPr id="104" name=""/>
            <p:cNvGrpSpPr/>
            <p:nvPr/>
          </p:nvGrpSpPr>
          <p:grpSpPr>
            <a:xfrm>
              <a:off x="6019920" y="2895120"/>
              <a:ext cx="2894040" cy="2410560"/>
              <a:chOff x="6019920" y="2895120"/>
              <a:chExt cx="2894040" cy="2410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220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6477120" y="5029200"/>
                <a:ext cx="228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xCycle™ Viole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6200000">
                <a:off x="4990320" y="3924360"/>
                <a:ext cx="233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5720" y="3352680"/>
                <a:ext cx="6094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1.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458200" y="30481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152280"/>
            <a:ext cx="3200400" cy="2562480"/>
            <a:chOff x="2971800" y="152280"/>
            <a:chExt cx="3200400" cy="2562480"/>
          </a:xfrm>
        </p:grpSpPr>
        <p:sp>
          <p:nvSpPr>
            <p:cNvPr id="111" name=""/>
            <p:cNvSpPr/>
            <p:nvPr/>
          </p:nvSpPr>
          <p:spPr>
            <a:xfrm rot="16200000">
              <a:off x="1967040" y="11570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™ Violet Area 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3200400" y="152280"/>
              <a:ext cx="29718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962520" y="3049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nglet 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304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438280"/>
              <a:ext cx="23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™ Violet  Width 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2895480"/>
            <a:ext cx="2894040" cy="2441520"/>
            <a:chOff x="0" y="2895480"/>
            <a:chExt cx="2894040" cy="2441520"/>
          </a:xfrm>
        </p:grpSpPr>
        <p:grpSp>
          <p:nvGrpSpPr>
            <p:cNvPr id="117" name=""/>
            <p:cNvGrpSpPr/>
            <p:nvPr/>
          </p:nvGrpSpPr>
          <p:grpSpPr>
            <a:xfrm>
              <a:off x="0" y="2895480"/>
              <a:ext cx="2894040" cy="2441520"/>
              <a:chOff x="0" y="2895480"/>
              <a:chExt cx="2894040" cy="2441520"/>
            </a:xfrm>
          </p:grpSpPr>
          <p:pic>
            <p:nvPicPr>
              <p:cNvPr id="1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28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457200" y="5029200"/>
                <a:ext cx="228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xCycle™ Viole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-1028880" y="4031280"/>
                <a:ext cx="233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8280" y="30481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62120" y="3200400"/>
              <a:ext cx="533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57200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7242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9:45:25Z</dcterms:created>
  <dc:creator>jolene.bradford</dc:creator>
  <dc:description/>
  <dc:language>en-US</dc:language>
  <cp:lastModifiedBy>lucas.chase</cp:lastModifiedBy>
  <dcterms:modified xsi:type="dcterms:W3CDTF">2010-02-20T18:57:40Z</dcterms:modified>
  <cp:revision>13</cp:revision>
  <dc:subject/>
  <dc:title>Slide 1</dc:title>
</cp:coreProperties>
</file>